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DA2F-2F98-4AF4-A0B0-78BC1D23A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9C69-ADAE-44B9-A770-3EFBEF3B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34C2-798A-48FF-8372-D42F14DEB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CAAA-4A4B-43F7-B81C-9B0355DF8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23C0-7AB1-4EAB-B0D2-820B820C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49F4-BAD2-4796-B517-0983254B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21F7-913F-4799-B265-0992CE45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1B69-C74D-4BE8-A661-91E78B4F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B665-D183-41B4-A369-28A96DDA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439A-A7B1-4041-931A-1AC8BCE9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BC1D-2800-42CA-8161-BF601A2A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7C0C-516D-4BDF-B893-997B425D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E91E-A73D-4E08-B033-99586B894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0"/>
            <a:ext cx="6029280" cy="725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adder ITC"/>
              </a:rPr>
              <a:t>leons'  chocolate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lackadder ITC"/>
              <a:ea typeface="Blackadder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adder ITC"/>
              </a:rPr>
              <a:t>squares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lackadder ITC"/>
              <a:ea typeface="Blackadder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1532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2:51:46Z</dcterms:created>
  <dc:creator>Student</dc:creator>
  <dc:description/>
  <dc:language>en-US</dc:language>
  <cp:lastModifiedBy>Student</cp:lastModifiedBy>
  <dcterms:modified xsi:type="dcterms:W3CDTF">2008-09-18T01:38:57Z</dcterms:modified>
  <cp:revision>5</cp:revision>
  <dc:subject/>
  <dc:title>Slide 1</dc:title>
</cp:coreProperties>
</file>